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8468-7764-42C9-B54A-F2306B44E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A4A5-B7D5-428D-9427-AEDA620E2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2520-2784-4054-8C32-EBE96C78A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0924-749A-4FF4-85FE-16644F4F5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B0A4-81A0-444B-82A2-39D84AA29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425F-0D6F-4EAB-B02D-5438912A7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6BDD-F027-4D97-A8DB-A0F09214D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3B0E-E14C-4C96-BB49-A954D0528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C554-F2EB-43EB-AEC2-50C3BAA31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590D-9F06-47CB-98BB-0BA7E86F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14EC-AE55-484A-89DC-1FA77144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AAF0-709D-4C23-BF88-96B06176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32CFD-DB5F-43BF-BD9D-EFC5AFB996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Sahaj\Desktop\Blackboard-psd10951.png"/>
          <p:cNvPicPr/>
          <p:nvPr/>
        </p:nvPicPr>
        <p:blipFill>
          <a:blip r:embed="rId1"/>
          <a:stretch/>
        </p:blipFill>
        <p:spPr>
          <a:xfrm>
            <a:off x="9360" y="0"/>
            <a:ext cx="91123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What Would You Do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47920" y="2057400"/>
            <a:ext cx="6400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joeHand 2"/>
              </a:rPr>
              <a:t>The class is mak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joeHand 2"/>
              </a:rPr>
              <a:t> </a:t>
            </a:r>
            <a:r>
              <a:rPr b="1" lang="en-US" sz="4000" spc="-1" strike="noStrike">
                <a:solidFill>
                  <a:srgbClr val="ffcc00"/>
                </a:solidFill>
                <a:latin typeface="joeHand 2"/>
              </a:rPr>
              <a:t>silly nois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joeHand 2"/>
              </a:rPr>
              <a:t>Such a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joeHand 2"/>
              </a:rPr>
              <a:t>Tapping, squeaky shoes, animal sounds, farting imitation, whistling, popping, clicking pens, etc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Users\Sahaj\Desktop\Blackboard-psd10951.png"/>
          <p:cNvPicPr/>
          <p:nvPr/>
        </p:nvPicPr>
        <p:blipFill>
          <a:blip r:embed="rId1"/>
          <a:stretch/>
        </p:blipFill>
        <p:spPr>
          <a:xfrm>
            <a:off x="9360" y="0"/>
            <a:ext cx="91123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Comic Sans MS"/>
              </a:rPr>
              <a:t>Class is making silly no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47920" y="2057400"/>
            <a:ext cx="6400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joeHand 2"/>
              </a:rPr>
              <a:t>Author’s Advice</a:t>
            </a:r>
            <a:r>
              <a:rPr b="1" lang="en-US" sz="3600" spc="-1" strike="noStrike">
                <a:solidFill>
                  <a:srgbClr val="ffffff"/>
                </a:solidFill>
                <a:latin typeface="joeHand 2"/>
              </a:rPr>
              <a:t>: Remain friendly, avoid raising your voic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joeHand 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joeHand 2"/>
              </a:rPr>
              <a:t>Gentle Reprim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joeHand 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joeHand 2"/>
              </a:rPr>
              <a:t>Light Rema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joeHand 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joeHand 2"/>
              </a:rPr>
              <a:t>Assertive I-Mess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joeHand 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joeHand 2"/>
              </a:rPr>
              <a:t>Threat, using peer press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joeHand 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joeHand 2"/>
              </a:rPr>
              <a:t>Embarrass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Sahaj\Desktop\Blackboard-psd10951.png"/>
          <p:cNvPicPr/>
          <p:nvPr/>
        </p:nvPicPr>
        <p:blipFill>
          <a:blip r:embed="rId1"/>
          <a:stretch/>
        </p:blipFill>
        <p:spPr>
          <a:xfrm>
            <a:off x="9360" y="0"/>
            <a:ext cx="91123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What Would You Do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2057400"/>
            <a:ext cx="6400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00"/>
                </a:solidFill>
                <a:latin typeface="Calibri"/>
              </a:rPr>
              <a:t>Students are talking while you are talking or while other students are sharing out answ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Users\Sahaj\Desktop\Blackboard-psd10951.png"/>
          <p:cNvPicPr/>
          <p:nvPr/>
        </p:nvPicPr>
        <p:blipFill>
          <a:blip r:embed="rId1"/>
          <a:stretch/>
        </p:blipFill>
        <p:spPr>
          <a:xfrm>
            <a:off x="9360" y="0"/>
            <a:ext cx="911232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Comic Sans MS"/>
              </a:rPr>
              <a:t>Talking when teacher is talk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2057400"/>
            <a:ext cx="6400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Suggestions from the Auth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Raise your voice and say “I need you to be quiet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ower your vo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top teaching and stand silent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hreaten to give home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Mention staying after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Focus on one talk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Users\Sahaj\Desktop\Blackboard-psd10951.png"/>
          <p:cNvPicPr/>
          <p:nvPr/>
        </p:nvPicPr>
        <p:blipFill>
          <a:blip r:embed="rId1"/>
          <a:stretch/>
        </p:blipFill>
        <p:spPr>
          <a:xfrm>
            <a:off x="9360" y="0"/>
            <a:ext cx="911232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Comic Sans MS"/>
              </a:rPr>
              <a:t>What Would You Do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447920" y="2057400"/>
            <a:ext cx="6400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alibri"/>
              </a:rPr>
              <a:t>What would you do differently when you are teaching your worst class to improve the situatio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Users\Sahaj\Desktop\Blackboard-psd10951.png"/>
          <p:cNvPicPr/>
          <p:nvPr/>
        </p:nvPicPr>
        <p:blipFill>
          <a:blip r:embed="rId1"/>
          <a:stretch/>
        </p:blipFill>
        <p:spPr>
          <a:xfrm>
            <a:off x="9360" y="0"/>
            <a:ext cx="911232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mic Sans MS"/>
              </a:rPr>
              <a:t>How to improve the situation of teaching your worst clas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2361960"/>
            <a:ext cx="6400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Suggestions from the Author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In class</a:t>
            </a: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1. Institute a class management plan an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          </a:t>
            </a: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religiously follow 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2.     Carefully plan the seating cha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Constant proximity control (don’t go near your desk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Avoid “fun” activities you do with other classes. Peer pressure will convince the class  that they can do same activities if behavior impro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Outside  class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Make phone calls ho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Use detention, but not oft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14:16:15Z</dcterms:created>
  <dc:creator>ccps</dc:creator>
  <dc:description/>
  <dc:language>en-US</dc:language>
  <cp:lastModifiedBy>Robyn C Marsden</cp:lastModifiedBy>
  <dcterms:modified xsi:type="dcterms:W3CDTF">2011-04-19T16:30:02Z</dcterms:modified>
  <cp:revision>4</cp:revision>
  <dc:subject/>
  <dc:title>What Would You Do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978837</vt:lpwstr>
  </property>
</Properties>
</file>